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60C8-9BC4-41BA-A9D3-1D0E11B3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B78-6105-4670-A374-8D09E0BB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D8B-2A08-4850-905B-CCF015D0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39C-A9FD-406B-B862-C572720C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F071-A66C-4866-B571-FD1BB1FA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3D5E-874E-4320-917A-8F67AF2B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4D6C-5BEB-4CD6-BFED-30092569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29DF-BFE6-4691-B33A-88D553E5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481E-709E-4C39-93BC-B417821E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9A5C-26B3-417E-A1F9-052AC27B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EBC5-1F4A-4A41-B68C-8D8AD1AF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A13-EEBD-48D4-A2C3-7E691AF9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6DBE-ACDE-4C59-9ABD-5EF4AEB2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D004-7533-48A1-B7CC-693275A3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A867-82BF-4240-A245-827A1D72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D9F9-A66A-436A-B922-024CFECD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408D-D628-46BF-A657-FB3114A0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0355A-B966-4CAF-B1BE-9158C76F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4D35-4D62-4491-8DBA-AF3B405D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63158-69AF-41C2-A9FA-3BED8C31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58100-B36D-45C2-AEAB-F5190771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AC33B-0E9E-4128-87D8-59292330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DE3B-8DD7-4D0A-AD0C-C9455358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DD628-7FCA-4502-B4CD-9F9C1120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8056D-DA13-4AB6-946D-4364DA43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FDEB5-E468-4A68-A5F9-9D25307C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431FB-BA0F-4AD9-A1C4-B781DA64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558DC-727F-4075-AA49-F2D9BF14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C102C-9E18-4793-90A1-390300AD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9F34E-E574-471A-ACC8-440EEAC3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8D8C1-6416-4BDE-A0AD-F2FE9F9B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9061F-99F4-41FC-94B4-83337BC9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0C003-D93A-48B4-8440-897978A5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EF0C-E4F8-485A-BD18-FB23CEC2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2A6F4-FC5F-4761-BAAB-9C213E33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5FC85-0C06-45D6-B1DE-5B2CCA27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3D75A-1F4B-4A20-94A1-EAC15C7C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56683-963A-4301-9928-33283751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C386B-BEF2-4AA6-BAB2-0C2A07A3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DAAB7-1008-433B-99D1-583EA727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19A2B-06DF-4267-B35C-F3D35646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6EF66-2B1D-4F3E-B8A8-6EA5ED2B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228D9-3E95-4DC9-AD60-4EF0E256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BB9-1200-47BE-AE09-682CABEE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03D-6CC5-4B1A-B4EE-7B07B2E8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7F8E-88D7-4FCC-B0BE-25766072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C23-0CA8-461F-8AD3-0FF8B967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33D-79D7-4084-A676-16AE4708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a liv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7AA9-6C35-4AB5-B929-F01B69AF0BC6}" type="slidenum"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a liv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a liv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2770-CE79-4258-9112-FE883EEF1027}" type="slidenum"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a liv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a liv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06EF-3337-4141-B0AF-C7BE70DEE41D}" type="slidenum"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tângulo com Único Canto Aparado e Arredondado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ângulo retângu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a livre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a livre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ACC6-588C-4359-8989-AAF3FD25F092}" type="slidenum"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ítulo 1" descr=""/>
          <p:cNvPicPr/>
          <p:nvPr/>
        </p:nvPicPr>
        <p:blipFill>
          <a:blip r:embed="rId1"/>
          <a:stretch/>
        </p:blipFill>
        <p:spPr>
          <a:xfrm>
            <a:off x="189000" y="1365120"/>
            <a:ext cx="870588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9680" y="371484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EA DE TRABALHO DO </a:t>
            </a:r>
            <a:r>
              <a:rPr b="1" i="1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400" y="704880"/>
            <a:ext cx="825804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Barra de ferramentas do CG II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2428920" y="1428840"/>
            <a:ext cx="47800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2571840" y="857160"/>
            <a:ext cx="3552840" cy="2071800"/>
          </a:xfrm>
          <a:prstGeom prst="rect">
            <a:avLst/>
          </a:prstGeom>
          <a:ln w="0">
            <a:noFill/>
          </a:ln>
        </p:spPr>
      </p:pic>
      <p:sp>
        <p:nvSpPr>
          <p:cNvPr id="200" name="CaixaDeTexto 4"/>
          <p:cNvSpPr/>
          <p:nvPr/>
        </p:nvSpPr>
        <p:spPr>
          <a:xfrm>
            <a:off x="285840" y="2786040"/>
            <a:ext cx="8572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ntei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285840" y="3143160"/>
            <a:ext cx="3009960" cy="1200240"/>
          </a:xfrm>
          <a:prstGeom prst="rect">
            <a:avLst/>
          </a:prstGeom>
          <a:ln w="0">
            <a:noFill/>
          </a:ln>
        </p:spPr>
      </p:pic>
      <p:sp>
        <p:nvSpPr>
          <p:cNvPr id="202" name="CaixaDeTexto 7"/>
          <p:cNvSpPr/>
          <p:nvPr/>
        </p:nvSpPr>
        <p:spPr>
          <a:xfrm>
            <a:off x="357120" y="471492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3"/>
          <a:stretch/>
        </p:blipFill>
        <p:spPr>
          <a:xfrm>
            <a:off x="285840" y="5072040"/>
            <a:ext cx="3019320" cy="990720"/>
          </a:xfrm>
          <a:prstGeom prst="rect">
            <a:avLst/>
          </a:prstGeom>
          <a:ln w="0">
            <a:noFill/>
          </a:ln>
        </p:spPr>
      </p:pic>
      <p:sp>
        <p:nvSpPr>
          <p:cNvPr id="204" name="CaixaDeTexto 9"/>
          <p:cNvSpPr/>
          <p:nvPr/>
        </p:nvSpPr>
        <p:spPr>
          <a:xfrm>
            <a:off x="3929040" y="285768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t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4"/>
          <a:stretch/>
        </p:blipFill>
        <p:spPr>
          <a:xfrm>
            <a:off x="3929040" y="3143160"/>
            <a:ext cx="2962440" cy="1809720"/>
          </a:xfrm>
          <a:prstGeom prst="rect">
            <a:avLst/>
          </a:prstGeom>
          <a:ln w="0">
            <a:noFill/>
          </a:ln>
        </p:spPr>
      </p:pic>
      <p:sp>
        <p:nvSpPr>
          <p:cNvPr id="206" name="CaixaDeTexto 11"/>
          <p:cNvSpPr/>
          <p:nvPr/>
        </p:nvSpPr>
        <p:spPr>
          <a:xfrm>
            <a:off x="4000680" y="492912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urv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5"/>
          <a:stretch/>
        </p:blipFill>
        <p:spPr>
          <a:xfrm>
            <a:off x="4000680" y="5286240"/>
            <a:ext cx="295272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85840" y="257148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i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786040" y="714240"/>
            <a:ext cx="3552840" cy="1857600"/>
          </a:xfrm>
          <a:prstGeom prst="rect">
            <a:avLst/>
          </a:prstGeom>
          <a:ln w="0">
            <a:noFill/>
          </a:ln>
        </p:spPr>
      </p:pic>
      <p:sp>
        <p:nvSpPr>
          <p:cNvPr id="210" name="CaixaDeTexto 5"/>
          <p:cNvSpPr/>
          <p:nvPr/>
        </p:nvSpPr>
        <p:spPr>
          <a:xfrm>
            <a:off x="357120" y="3000240"/>
            <a:ext cx="3214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357120" y="3000240"/>
            <a:ext cx="3000600" cy="2409840"/>
          </a:xfrm>
          <a:prstGeom prst="rect">
            <a:avLst/>
          </a:prstGeom>
          <a:ln w="0">
            <a:noFill/>
          </a:ln>
        </p:spPr>
      </p:pic>
      <p:sp>
        <p:nvSpPr>
          <p:cNvPr id="212" name="CaixaDeTexto 9"/>
          <p:cNvSpPr/>
          <p:nvPr/>
        </p:nvSpPr>
        <p:spPr>
          <a:xfrm>
            <a:off x="4143240" y="2571840"/>
            <a:ext cx="2071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form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3"/>
          <a:stretch/>
        </p:blipFill>
        <p:spPr>
          <a:xfrm>
            <a:off x="4286160" y="3000240"/>
            <a:ext cx="29718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285840" y="25718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786040" y="714240"/>
            <a:ext cx="3552840" cy="1857600"/>
          </a:xfrm>
          <a:prstGeom prst="rect">
            <a:avLst/>
          </a:prstGeom>
          <a:ln w="0">
            <a:noFill/>
          </a:ln>
        </p:spPr>
      </p:pic>
      <p:sp>
        <p:nvSpPr>
          <p:cNvPr id="216" name="CaixaDeTexto 5"/>
          <p:cNvSpPr/>
          <p:nvPr/>
        </p:nvSpPr>
        <p:spPr>
          <a:xfrm>
            <a:off x="357120" y="3000240"/>
            <a:ext cx="3214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aixaDeTexto 9"/>
          <p:cNvSpPr/>
          <p:nvPr/>
        </p:nvSpPr>
        <p:spPr>
          <a:xfrm>
            <a:off x="4143240" y="2571840"/>
            <a:ext cx="3357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erificar proprieda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285840" y="3071880"/>
            <a:ext cx="2943000" cy="961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3"/>
          <a:stretch/>
        </p:blipFill>
        <p:spPr>
          <a:xfrm>
            <a:off x="4214880" y="3000240"/>
            <a:ext cx="3076560" cy="1362240"/>
          </a:xfrm>
          <a:prstGeom prst="rect">
            <a:avLst/>
          </a:prstGeom>
          <a:ln w="0">
            <a:noFill/>
          </a:ln>
        </p:spPr>
      </p:pic>
      <p:sp>
        <p:nvSpPr>
          <p:cNvPr id="220" name="CaixaDeTexto 9"/>
          <p:cNvSpPr/>
          <p:nvPr/>
        </p:nvSpPr>
        <p:spPr>
          <a:xfrm>
            <a:off x="362880" y="45007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d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4"/>
          <a:stretch/>
        </p:blipFill>
        <p:spPr>
          <a:xfrm>
            <a:off x="357120" y="4857840"/>
            <a:ext cx="3981600" cy="1657440"/>
          </a:xfrm>
          <a:prstGeom prst="rect">
            <a:avLst/>
          </a:prstGeom>
          <a:ln w="0">
            <a:noFill/>
          </a:ln>
        </p:spPr>
      </p:pic>
      <p:sp>
        <p:nvSpPr>
          <p:cNvPr id="222" name="CaixaDeTexto 13"/>
          <p:cNvSpPr/>
          <p:nvPr/>
        </p:nvSpPr>
        <p:spPr>
          <a:xfrm>
            <a:off x="4720320" y="4286160"/>
            <a:ext cx="89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ib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5"/>
          <a:stretch/>
        </p:blipFill>
        <p:spPr>
          <a:xfrm>
            <a:off x="4714920" y="4643280"/>
            <a:ext cx="386712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85840" y="257148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enha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786040" y="714240"/>
            <a:ext cx="3552840" cy="1857600"/>
          </a:xfrm>
          <a:prstGeom prst="rect">
            <a:avLst/>
          </a:prstGeom>
          <a:ln w="0">
            <a:noFill/>
          </a:ln>
        </p:spPr>
      </p:pic>
      <p:sp>
        <p:nvSpPr>
          <p:cNvPr id="226" name="CaixaDeTexto 5"/>
          <p:cNvSpPr/>
          <p:nvPr/>
        </p:nvSpPr>
        <p:spPr>
          <a:xfrm>
            <a:off x="357120" y="3000240"/>
            <a:ext cx="3214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2"/>
          <a:stretch/>
        </p:blipFill>
        <p:spPr>
          <a:xfrm>
            <a:off x="2214720" y="3643200"/>
            <a:ext cx="41907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6:18:13Z</dcterms:created>
  <dc:creator>Windows</dc:creator>
  <dc:description/>
  <dc:language>en-US</dc:language>
  <cp:lastModifiedBy>Windows</cp:lastModifiedBy>
  <dcterms:modified xsi:type="dcterms:W3CDTF">2009-10-17T18:34:58Z</dcterms:modified>
  <cp:revision>16</cp:revision>
  <dc:subject/>
  <dc:title>CURSO: </dc:title>
</cp:coreProperties>
</file>